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3E0C-CB07-447C-A18A-C382E3C5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D0F-CFB6-4063-8A35-9D911989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4C1D-E22D-4D68-B883-ACC6D16E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F5F-7DAF-412F-B09C-D7D0251C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822A-AA00-4321-8E9C-849AF274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1C1-8010-49B6-A742-F3B51828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575-8DCE-4A65-A7AA-2077A67B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FA53-1453-4EE7-840A-5B455B1F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F99C-7E52-494A-858C-8C75645F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DDFB-A350-4473-A30C-825F98FB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FFC0-C582-4BC1-85AA-EDA1EF52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C38-F1D8-467B-8132-89C76A34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F5703-600C-44EC-A5CE-D152A62874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Development of Immigration Laws:  1800’s to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hat kinds of attitudes about immigration have our laws refle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Vocab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Quota: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 cap on how many immigrants can come from one specific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mnesty: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Forgiveness for breaking a law; allows those here illegally to seek citize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ese Exclusion Act:  188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61452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Restricted almost all Chinese immigration to the U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452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First limit of any kind on imm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452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as a result of racist beliefs that blamed Chinese immigrants for economic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ddy Roosevelt's “Gentleman's Agreement”:  19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61452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Roosevelt agreed to end segregation of Japanese in U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452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Japanese gov’t agreed not to let any more people immigrate to the U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452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gain, it reflected racism towards Asians, especially in Califor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Origins Act:  19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1452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et quotas for immigration from individual countries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based on 1890 census (2% of that pop. annu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452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Quotas were very une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people from each African coun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: 2,248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y: 3,8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and:  34,007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: 51,2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 and Nationality Act: 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9920" y="20970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61452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bolished nationality and race-based quo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452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et overall limits, but treated all countries equ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452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Created family-based vis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ugee Act:  19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9920" y="22860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6588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Designated up to 70,000 visas per year to go to refugees (people whose lives are threatened by war/discrimination in their home count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 Reform and Control Act:  19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6588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Granted amnesty to 3,000,000 illegal immigrants living in the cou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588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Increased penalties for employers who knowingly hire illegal immigr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ummarize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For what reasons have immigration laws been created in the history of the U.S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Respond in a written paragrap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3:45:26Z</dcterms:created>
  <dc:creator/>
  <dc:description/>
  <dc:language>en-US</dc:language>
  <cp:lastModifiedBy/>
  <cp:revision>1</cp:revision>
  <dc:subject/>
  <dc:title/>
</cp:coreProperties>
</file>